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12686-E243-40FF-AC96-B615D0BD2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01309-1D5A-42AC-B0A5-049072C0D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3502A-1683-4DD8-A388-EEF20378E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27214-0EDB-431E-9F15-C02B4DCAA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C53D7-3D1B-4143-A0CD-56EAE66DF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5432D-DD48-4268-8F40-A9CD94E19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C298E-7A1F-4C9F-8A0B-30932A29E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12FB0-4D9E-484A-A861-09685DC27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D080A-3079-4899-9683-14267CBD9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0B67A-2F1D-444C-97FA-DC4335273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5A892-C92B-40EF-A651-254029F1C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8B343-FF8E-4318-A11F-17385B0C1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L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79CE5-E4F6-4B31-97C3-93D452BEE1E8}" type="slidenum">
              <a:rPr b="0" lang="de-L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LU" sz="4400" spc="-1" strike="noStrike">
                <a:solidFill>
                  <a:srgbClr val="000000"/>
                </a:solidFill>
                <a:latin typeface="Calibri"/>
              </a:rPr>
              <a:t>Tri-Celti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LU" sz="3200" spc="-1" strike="noStrike">
                <a:solidFill>
                  <a:srgbClr val="898989"/>
                </a:solidFill>
                <a:latin typeface="Calibri"/>
              </a:rPr>
              <a:t>Swim session with cloth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LU" sz="4400" spc="-1" strike="noStrike">
                <a:solidFill>
                  <a:srgbClr val="000000"/>
                </a:solidFill>
                <a:latin typeface="Calibri"/>
              </a:rPr>
              <a:t>They did it part 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Content Placeholder 9" descr="P1000721.JPG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428760" y="1500120"/>
            <a:ext cx="3286080" cy="24652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0" descr="P1000724.JPG"/>
          <p:cNvPicPr/>
          <p:nvPr/>
        </p:nvPicPr>
        <p:blipFill>
          <a:blip r:embed="rId2"/>
          <a:stretch/>
        </p:blipFill>
        <p:spPr>
          <a:xfrm>
            <a:off x="5286240" y="1500120"/>
            <a:ext cx="3357720" cy="25178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1" descr="P1000732.JPG"/>
          <p:cNvPicPr/>
          <p:nvPr/>
        </p:nvPicPr>
        <p:blipFill>
          <a:blip r:embed="rId3"/>
          <a:stretch/>
        </p:blipFill>
        <p:spPr>
          <a:xfrm>
            <a:off x="2786040" y="4071960"/>
            <a:ext cx="3500640" cy="26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LU" sz="4400" spc="-1" strike="noStrike">
                <a:solidFill>
                  <a:srgbClr val="000000"/>
                </a:solidFill>
                <a:latin typeface="Calibri"/>
              </a:rPr>
              <a:t>They did it part I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Content Placeholder 3" descr="P1000742.JPG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571680" y="1643040"/>
            <a:ext cx="4000320" cy="30002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P1000750.JPG"/>
          <p:cNvPicPr/>
          <p:nvPr/>
        </p:nvPicPr>
        <p:blipFill>
          <a:blip r:embed="rId2"/>
          <a:stretch/>
        </p:blipFill>
        <p:spPr>
          <a:xfrm>
            <a:off x="4643280" y="1643040"/>
            <a:ext cx="4000680" cy="3000240"/>
          </a:xfrm>
          <a:prstGeom prst="rect">
            <a:avLst/>
          </a:prstGeom>
          <a:ln w="0">
            <a:noFill/>
          </a:ln>
        </p:spPr>
      </p:pic>
      <p:sp>
        <p:nvSpPr>
          <p:cNvPr id="50" name="TextBox 6"/>
          <p:cNvSpPr/>
          <p:nvPr/>
        </p:nvSpPr>
        <p:spPr>
          <a:xfrm>
            <a:off x="1357200" y="4929120"/>
            <a:ext cx="6786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LU" sz="8000" spc="-1" strike="noStrike">
                <a:solidFill>
                  <a:srgbClr val="000000"/>
                </a:solidFill>
                <a:latin typeface="Calibri"/>
              </a:rPr>
              <a:t>WELL DONE !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06T17:14:53Z</dcterms:created>
  <dc:creator>angab95@pt.lu</dc:creator>
  <dc:description/>
  <dc:language>en-US</dc:language>
  <cp:lastModifiedBy>angab95@pt.lu</cp:lastModifiedBy>
  <dcterms:modified xsi:type="dcterms:W3CDTF">2014-04-06T17:25:46Z</dcterms:modified>
  <cp:revision>3</cp:revision>
  <dc:subject/>
  <dc:title>Tri-Celtic</dc:title>
</cp:coreProperties>
</file>