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CF4-3D2D-4996-91C4-39545A66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78BA-00F9-4A3D-AB7D-9EA6B775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F283-351F-44F1-A730-AFEEA342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9769-C877-418D-8909-F298647C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660F-02F5-472E-B751-C1FBE0FF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3CC9-9651-4958-B91B-740BF923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B46B-BBB9-4C07-8CAD-2B39080E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E5AE-4589-4AD3-8983-8539CF8F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B947-DBB0-464F-919D-57A10C0E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0E2-E7FF-4531-8242-CC2BB36D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7C38-8E41-4070-B7E9-8BDA1545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97FE-5987-480B-AD35-9BB77550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L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42E3-0BB4-4747-9946-11515A7E480C}" type="slidenum">
              <a:rPr b="0" lang="de-L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4400" spc="-1" strike="noStrike">
                <a:solidFill>
                  <a:srgbClr val="000000"/>
                </a:solidFill>
                <a:latin typeface="Calibri"/>
              </a:rPr>
              <a:t>Tri-Cel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3200" spc="-1" strike="noStrike">
                <a:solidFill>
                  <a:srgbClr val="898989"/>
                </a:solidFill>
                <a:latin typeface="Calibri"/>
              </a:rPr>
              <a:t>Swim session with clot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4400" spc="-1" strike="noStrike">
                <a:solidFill>
                  <a:srgbClr val="000000"/>
                </a:solidFill>
                <a:latin typeface="Calibri"/>
              </a:rPr>
              <a:t>They did it part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9" descr="P1000721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28760" y="1500120"/>
            <a:ext cx="3286080" cy="2465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P1000724.JPG"/>
          <p:cNvPicPr/>
          <p:nvPr/>
        </p:nvPicPr>
        <p:blipFill>
          <a:blip r:embed="rId2"/>
          <a:stretch/>
        </p:blipFill>
        <p:spPr>
          <a:xfrm>
            <a:off x="5286240" y="1500120"/>
            <a:ext cx="3357720" cy="251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P1000732.JPG"/>
          <p:cNvPicPr/>
          <p:nvPr/>
        </p:nvPicPr>
        <p:blipFill>
          <a:blip r:embed="rId3"/>
          <a:stretch/>
        </p:blipFill>
        <p:spPr>
          <a:xfrm>
            <a:off x="2786040" y="4071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4400" spc="-1" strike="noStrike">
                <a:solidFill>
                  <a:srgbClr val="000000"/>
                </a:solidFill>
                <a:latin typeface="Calibri"/>
              </a:rPr>
              <a:t>They did it part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P100074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71680" y="164304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P1000750.JPG"/>
          <p:cNvPicPr/>
          <p:nvPr/>
        </p:nvPicPr>
        <p:blipFill>
          <a:blip r:embed="rId2"/>
          <a:stretch/>
        </p:blipFill>
        <p:spPr>
          <a:xfrm>
            <a:off x="4643280" y="1643040"/>
            <a:ext cx="4000680" cy="3000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1357200" y="4929120"/>
            <a:ext cx="678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LU" sz="8000" spc="-1" strike="noStrike">
                <a:solidFill>
                  <a:srgbClr val="000000"/>
                </a:solidFill>
                <a:latin typeface="Calibri"/>
              </a:rPr>
              <a:t>WELL DONE 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6T17:14:53Z</dcterms:created>
  <dc:creator>angab95@pt.lu</dc:creator>
  <dc:description/>
  <dc:language>en-US</dc:language>
  <cp:lastModifiedBy>angab95@pt.lu</cp:lastModifiedBy>
  <dcterms:modified xsi:type="dcterms:W3CDTF">2014-04-06T17:25:46Z</dcterms:modified>
  <cp:revision>3</cp:revision>
  <dc:subject/>
  <dc:title>Tri-Celtic</dc:title>
</cp:coreProperties>
</file>