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015-B369-40BE-8BA5-8A8358C4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1D7-9A8E-4C5E-AD0E-3FD30C0B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F7E-2F7A-47E8-B08E-83A57CD0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F20-EA10-48A0-8F69-7EBF233A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EC8-E041-4C90-A101-C9F09E9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03B-52F1-4054-86F6-23C9FED0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A41-7D25-4C3E-8EC2-44194C66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19D-4DDE-430F-A224-4FB3DFB2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E91-9B5C-4F6D-B2FE-F54E1FDB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CC0-8065-4DC8-B67E-8C84C6F0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5AF-D482-4A98-854D-F553807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66B-DD68-47BD-9C25-03A199B5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L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47C0-2A3B-4BD4-820C-BD27BA0B8FC0}" type="slidenum">
              <a:rPr b="0" lang="de-L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ri-Cel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898989"/>
                </a:solidFill>
                <a:latin typeface="Calibri"/>
              </a:rPr>
              <a:t>Swim session with clot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hey did it part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9" descr="P1000721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15001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P1000724.JPG"/>
          <p:cNvPicPr/>
          <p:nvPr/>
        </p:nvPicPr>
        <p:blipFill>
          <a:blip r:embed="rId2"/>
          <a:stretch/>
        </p:blipFill>
        <p:spPr>
          <a:xfrm>
            <a:off x="5286240" y="150012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P1000732.JPG"/>
          <p:cNvPicPr/>
          <p:nvPr/>
        </p:nvPicPr>
        <p:blipFill>
          <a:blip r:embed="rId3"/>
          <a:stretch/>
        </p:blipFill>
        <p:spPr>
          <a:xfrm>
            <a:off x="2786040" y="4071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hey did it part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100074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1680" y="164304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P1000750.JPG"/>
          <p:cNvPicPr/>
          <p:nvPr/>
        </p:nvPicPr>
        <p:blipFill>
          <a:blip r:embed="rId2"/>
          <a:stretch/>
        </p:blipFill>
        <p:spPr>
          <a:xfrm>
            <a:off x="4643280" y="164304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357200" y="492912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LU" sz="8000" spc="-1" strike="noStrike">
                <a:solidFill>
                  <a:srgbClr val="000000"/>
                </a:solidFill>
                <a:latin typeface="Calibri"/>
              </a:rPr>
              <a:t>WELL DONE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7:14:53Z</dcterms:created>
  <dc:creator>angab95@pt.lu</dc:creator>
  <dc:description/>
  <dc:language>en-US</dc:language>
  <cp:lastModifiedBy>angab95@pt.lu</cp:lastModifiedBy>
  <dcterms:modified xsi:type="dcterms:W3CDTF">2014-04-06T17:25:46Z</dcterms:modified>
  <cp:revision>3</cp:revision>
  <dc:subject/>
  <dc:title>Tri-Celtic</dc:title>
</cp:coreProperties>
</file>