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911-11A2-43CC-9DC1-472D3FC1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741-BAAF-43A2-B72D-155A6436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1BA-402A-4550-8498-6A92D5B5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947-81AC-47C0-BD28-B64E2106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5FF-5963-412B-A065-A65298D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1B3-1345-4AD4-B071-3B18CF5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8C3-C28E-4D45-81E1-E474709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0D2-A6F1-4486-89A2-685DA74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286-D098-450B-B0B7-A53C22A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21C-7592-4E01-88CA-DC5A240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84A-A2DC-4E79-9B0D-C887BF8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07D-97D9-468C-A07E-5F21EE2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L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92A-EC43-4594-8CEE-47AAB1E2D98A}" type="slidenum">
              <a:rPr b="0" lang="de-L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TRI CEL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898989"/>
                </a:solidFill>
                <a:latin typeface="Calibri"/>
              </a:rPr>
              <a:t>AQUAFITNESS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P100076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214280"/>
            <a:ext cx="3875040" cy="290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1000768.JPG"/>
          <p:cNvPicPr/>
          <p:nvPr/>
        </p:nvPicPr>
        <p:blipFill>
          <a:blip r:embed="rId2"/>
          <a:stretch/>
        </p:blipFill>
        <p:spPr>
          <a:xfrm>
            <a:off x="4500720" y="3214800"/>
            <a:ext cx="43574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100079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2142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1000786.JPG"/>
          <p:cNvPicPr/>
          <p:nvPr/>
        </p:nvPicPr>
        <p:blipFill>
          <a:blip r:embed="rId2"/>
          <a:stretch/>
        </p:blipFill>
        <p:spPr>
          <a:xfrm>
            <a:off x="4643280" y="328608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II – The mo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1000791.MOV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alibri"/>
              </a:rPr>
              <a:t>PART IV The mo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1000778.MOV" descr=""/>
          <p:cNvPicPr/>
          <p:nvPr/>
        </p:nvPicPr>
        <p:blipFill>
          <a:blip r:embed="rId1"/>
          <a:stretch/>
        </p:blipFill>
        <p:spPr>
          <a:xfrm>
            <a:off x="1803240" y="1785960"/>
            <a:ext cx="5697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34:06Z</dcterms:created>
  <dc:creator>angab95@pt.lu</dc:creator>
  <dc:description/>
  <dc:language>en-US</dc:language>
  <cp:lastModifiedBy>angab95@pt.lu</cp:lastModifiedBy>
  <dcterms:modified xsi:type="dcterms:W3CDTF">2014-04-06T17:52:15Z</dcterms:modified>
  <cp:revision>2</cp:revision>
  <dc:subject/>
  <dc:title>TRI CELTIC</dc:title>
</cp:coreProperties>
</file>