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8A5-8F93-4FC0-B014-B118978E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75C-94A1-4ECE-991C-3D83793C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44C-AA3E-4C69-86A5-4052C590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AFD-F108-40AC-9A6B-0AE6DB02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83D-843B-4B25-AFA9-BE4AD8B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DEE-62F8-41FC-8027-DD92B9FC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E29-E71D-4ADD-8380-460AAC5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EE8-C894-4F49-893A-285465C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C4A-DDFC-4990-976C-3E67360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5C6-E247-4923-8501-D9C515E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D48-0793-4C24-A9A6-8C8FFF6B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115-C94D-4BC9-A56B-548E8AE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135-F52F-4D40-8FA0-543410F2AAC1}" type="slidenum">
              <a:rPr b="0" lang="de-L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RI CEL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898989"/>
                </a:solidFill>
                <a:latin typeface="Calibri"/>
              </a:rPr>
              <a:t>AQUAFITNESS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100076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214280"/>
            <a:ext cx="3875040" cy="290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1000768.JPG"/>
          <p:cNvPicPr/>
          <p:nvPr/>
        </p:nvPicPr>
        <p:blipFill>
          <a:blip r:embed="rId2"/>
          <a:stretch/>
        </p:blipFill>
        <p:spPr>
          <a:xfrm>
            <a:off x="4500720" y="3214800"/>
            <a:ext cx="43574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100079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214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1000786.JPG"/>
          <p:cNvPicPr/>
          <p:nvPr/>
        </p:nvPicPr>
        <p:blipFill>
          <a:blip r:embed="rId2"/>
          <a:stretch/>
        </p:blipFill>
        <p:spPr>
          <a:xfrm>
            <a:off x="4643280" y="328608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II – The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1000791.MOV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V The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1000778.MOV" descr=""/>
          <p:cNvPicPr/>
          <p:nvPr/>
        </p:nvPicPr>
        <p:blipFill>
          <a:blip r:embed="rId1"/>
          <a:stretch/>
        </p:blipFill>
        <p:spPr>
          <a:xfrm>
            <a:off x="1803240" y="1785960"/>
            <a:ext cx="5697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34:06Z</dcterms:created>
  <dc:creator>angab95@pt.lu</dc:creator>
  <dc:description/>
  <dc:language>en-US</dc:language>
  <cp:lastModifiedBy>angab95@pt.lu</cp:lastModifiedBy>
  <dcterms:modified xsi:type="dcterms:W3CDTF">2014-04-06T17:52:15Z</dcterms:modified>
  <cp:revision>2</cp:revision>
  <dc:subject/>
  <dc:title>TRI CELTIC</dc:title>
</cp:coreProperties>
</file>